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CFA5-060F-4829-AE21-82010A0E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9503-588B-406E-8B4E-85CE9C184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F39F-EC2C-4347-86D0-ED9B3DF9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274A-9FFD-485D-A03F-0FE2518B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C21-1582-4611-AF40-C1E1244B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6836-9FA3-40F9-AEF3-292EDFA5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6313-F905-45EB-9DEA-D7D13565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174-89D4-4465-8563-D0EC17A5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020-2365-4CDA-A8F4-6D5A4D4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F05-1442-495E-A20D-275D7309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44B-A43C-4EB8-94A1-C1C95B83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89C-0309-4395-8447-E7670A3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186-8BDD-40F6-BA74-E5199F9F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FD0-4896-40C6-8C63-BE6D525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6A7-EFDF-4761-9086-642DE43B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B69-572B-436B-863E-AED14371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A13-1705-47BE-86D4-C0E7559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F09-4545-4544-A29E-C1D7A12F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BF02-8549-4F2F-9724-88E91063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D:/Program%20Files/Tencent/QQ2009/Users/370319289/FileRecv/m3u1/text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odule 3         Unit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aybe we’ll go to the z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imi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583236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Pump Demi Bold LET"/>
                <a:ea typeface="经典繁行书"/>
              </a:rPr>
              <a:t>Act ou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987640" y="285264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你最喜欢的部分进行表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2"/>
          <p:cNvSpPr/>
          <p:nvPr/>
        </p:nvSpPr>
        <p:spPr>
          <a:xfrm>
            <a:off x="6445080" y="692280"/>
            <a:ext cx="2590920" cy="504720"/>
          </a:xfrm>
          <a:prstGeom prst="wedgeRoundRectCallout">
            <a:avLst>
              <a:gd name="adj1" fmla="val 513"/>
              <a:gd name="adj2" fmla="val 40453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5292720" y="1413000"/>
            <a:ext cx="2521080" cy="576000"/>
          </a:xfrm>
          <a:prstGeom prst="wedgeRoundRectCallout">
            <a:avLst>
              <a:gd name="adj1" fmla="val -9208"/>
              <a:gd name="adj2" fmla="val 175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276720" y="1844640"/>
            <a:ext cx="2016000" cy="504720"/>
          </a:xfrm>
          <a:prstGeom prst="wedgeRectCallout">
            <a:avLst>
              <a:gd name="adj1" fmla="val -41097"/>
              <a:gd name="adj2" fmla="val 9470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2484360" y="260280"/>
            <a:ext cx="1798560" cy="1297080"/>
          </a:xfrm>
          <a:prstGeom prst="wedgeRectCallout">
            <a:avLst>
              <a:gd name="adj1" fmla="val -46046"/>
              <a:gd name="adj2" fmla="val 13505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36360" y="1341360"/>
            <a:ext cx="2662560" cy="1008000"/>
          </a:xfrm>
          <a:prstGeom prst="wedgeRectCallout">
            <a:avLst>
              <a:gd name="adj1" fmla="val -11240"/>
              <a:gd name="adj2" fmla="val 9332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amy"/>
          <p:cNvPicPr/>
          <p:nvPr/>
        </p:nvPicPr>
        <p:blipFill>
          <a:blip r:embed="rId2"/>
          <a:stretch/>
        </p:blipFill>
        <p:spPr>
          <a:xfrm>
            <a:off x="684360" y="2708280"/>
            <a:ext cx="2808000" cy="30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大明"/>
          <p:cNvPicPr/>
          <p:nvPr/>
        </p:nvPicPr>
        <p:blipFill>
          <a:blip r:embed="rId3"/>
          <a:stretch/>
        </p:blipFill>
        <p:spPr>
          <a:xfrm>
            <a:off x="6156360" y="2781360"/>
            <a:ext cx="2663640" cy="2994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6360" y="162864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 to the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629080" y="404640"/>
            <a:ext cx="160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lions, tigers and pa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132000" y="1917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 with S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364000" y="1486080"/>
            <a:ext cx="23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his grand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516720" y="692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country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7093080" y="2133720"/>
            <a:ext cx="1800000" cy="358560"/>
          </a:xfrm>
          <a:prstGeom prst="wedgeRoundRectCallout">
            <a:avLst>
              <a:gd name="adj1" fmla="val -35291"/>
              <a:gd name="adj2" fmla="val 12760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lots of pi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219320" y="6111720"/>
            <a:ext cx="19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y wil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597720" y="618012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ing will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’ll go to the z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19280" y="40464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il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d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Users\dell\AppData\Roaming\Tencent\Users\712326765\QQ\WinTemp\RichOle\1`FX3)_F5N[)D07YK`LE))7.png"/>
          <p:cNvPicPr/>
          <p:nvPr/>
        </p:nvPicPr>
        <p:blipFill>
          <a:blip r:embed="rId1"/>
          <a:stretch/>
        </p:blipFill>
        <p:spPr>
          <a:xfrm>
            <a:off x="1214280" y="1571760"/>
            <a:ext cx="6467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5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’ll go to              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619280" y="40464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il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d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照片 012"/>
          <p:cNvPicPr/>
          <p:nvPr/>
        </p:nvPicPr>
        <p:blipFill>
          <a:blip r:embed="rId1"/>
          <a:stretch/>
        </p:blipFill>
        <p:spPr>
          <a:xfrm>
            <a:off x="971640" y="1197000"/>
            <a:ext cx="6696000" cy="4376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116000" y="580536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284720" y="5661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0000"/>
                </a:solidFill>
                <a:uFillTx/>
                <a:latin typeface="Arial"/>
              </a:rPr>
              <a:t>the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55640" y="3068280"/>
            <a:ext cx="4249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’ll go to the supermark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175280" y="1268280"/>
            <a:ext cx="49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il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d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201102160948032033731356"/>
          <p:cNvPicPr/>
          <p:nvPr/>
        </p:nvPicPr>
        <p:blipFill>
          <a:blip r:embed="rId1"/>
          <a:stretch/>
        </p:blipFill>
        <p:spPr>
          <a:xfrm>
            <a:off x="179280" y="1197000"/>
            <a:ext cx="3889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19280" y="404640"/>
            <a:ext cx="60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What will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d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551628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’ll go to the cinem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_162215038_2"/>
          <p:cNvPicPr/>
          <p:nvPr/>
        </p:nvPicPr>
        <p:blipFill>
          <a:blip r:embed="rId1"/>
          <a:stretch/>
        </p:blipFill>
        <p:spPr>
          <a:xfrm>
            <a:off x="179280" y="1341360"/>
            <a:ext cx="81010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39640" y="242100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in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58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permark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859280" y="4869000"/>
            <a:ext cx="36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_162215038_2"/>
          <p:cNvPicPr/>
          <p:nvPr/>
        </p:nvPicPr>
        <p:blipFill>
          <a:blip r:embed="rId1"/>
          <a:stretch/>
        </p:blipFill>
        <p:spPr>
          <a:xfrm>
            <a:off x="0" y="0"/>
            <a:ext cx="4643280" cy="247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F201102160948032033731356"/>
          <p:cNvPicPr/>
          <p:nvPr/>
        </p:nvPicPr>
        <p:blipFill>
          <a:blip r:embed="rId2"/>
          <a:stretch/>
        </p:blipFill>
        <p:spPr>
          <a:xfrm>
            <a:off x="395280" y="3213000"/>
            <a:ext cx="3889440" cy="2760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dell\AppData\Roaming\Tencent\Users\712326765\QQ\WinTemp\RichOle\6[HHS3$PG_8SMW32R576X)B.png"/>
          <p:cNvPicPr/>
          <p:nvPr/>
        </p:nvPicPr>
        <p:blipFill>
          <a:blip r:embed="rId3"/>
          <a:stretch/>
        </p:blipFill>
        <p:spPr>
          <a:xfrm>
            <a:off x="5500800" y="285840"/>
            <a:ext cx="2876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do this week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课文_副本"/>
          <p:cNvPicPr/>
          <p:nvPr/>
        </p:nvPicPr>
        <p:blipFill>
          <a:blip r:embed="rId1"/>
          <a:stretch/>
        </p:blipFill>
        <p:spPr>
          <a:xfrm>
            <a:off x="539640" y="1219320"/>
            <a:ext cx="813600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0" descr="707"/>
          <p:cNvPicPr/>
          <p:nvPr/>
        </p:nvPicPr>
        <p:blipFill>
          <a:blip r:embed="rId1"/>
          <a:stretch/>
        </p:blipFill>
        <p:spPr>
          <a:xfrm>
            <a:off x="4770360" y="2428920"/>
            <a:ext cx="4373640" cy="44290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basketball1.png"/>
          <p:cNvPicPr/>
          <p:nvPr/>
        </p:nvPicPr>
        <p:blipFill>
          <a:blip r:embed="rId2"/>
          <a:stretch/>
        </p:blipFill>
        <p:spPr>
          <a:xfrm>
            <a:off x="1403280" y="2205000"/>
            <a:ext cx="3286080" cy="4464000"/>
          </a:xfrm>
          <a:prstGeom prst="rect">
            <a:avLst/>
          </a:prstGeom>
          <a:ln w="0">
            <a:noFill/>
          </a:ln>
        </p:spPr>
      </p:pic>
      <p:sp>
        <p:nvSpPr>
          <p:cNvPr id="133" name="矩形 6"/>
          <p:cNvSpPr/>
          <p:nvPr/>
        </p:nvSpPr>
        <p:spPr>
          <a:xfrm>
            <a:off x="-324000" y="2205000"/>
            <a:ext cx="194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4572000" y="1989000"/>
            <a:ext cx="300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√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826920" y="26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eekend, will you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900000" y="1052640"/>
            <a:ext cx="36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I wi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539640" y="242100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826920" y="5734080"/>
            <a:ext cx="25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z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859280" y="4869000"/>
            <a:ext cx="36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照片 012"/>
          <p:cNvPicPr/>
          <p:nvPr/>
        </p:nvPicPr>
        <p:blipFill>
          <a:blip r:embed="rId1"/>
          <a:stretch/>
        </p:blipFill>
        <p:spPr>
          <a:xfrm>
            <a:off x="179280" y="0"/>
            <a:ext cx="3600720" cy="2352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66564_104514006672_2"/>
          <p:cNvPicPr/>
          <p:nvPr/>
        </p:nvPicPr>
        <p:blipFill>
          <a:blip r:embed="rId2"/>
          <a:stretch/>
        </p:blipFill>
        <p:spPr>
          <a:xfrm>
            <a:off x="250920" y="3213000"/>
            <a:ext cx="3492360" cy="22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C:\Users\dell\AppData\Roaming\Tencent\Users\712326765\QQ\WinTemp\RichOle\$P{8KDCQ~P~0{KNYYI13US8.png"/>
          <p:cNvPicPr/>
          <p:nvPr/>
        </p:nvPicPr>
        <p:blipFill>
          <a:blip r:embed="rId3"/>
          <a:stretch/>
        </p:blipFill>
        <p:spPr>
          <a:xfrm>
            <a:off x="4286160" y="1571760"/>
            <a:ext cx="41626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702"/>
          <p:cNvPicPr/>
          <p:nvPr/>
        </p:nvPicPr>
        <p:blipFill>
          <a:blip r:embed="rId1"/>
          <a:srcRect l="7811" t="16713" r="9374" b="16713"/>
          <a:stretch/>
        </p:blipFill>
        <p:spPr>
          <a:xfrm>
            <a:off x="0" y="3214800"/>
            <a:ext cx="4214880" cy="36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rcRect l="58762" t="53519" r="5905" b="16609"/>
          <a:stretch/>
        </p:blipFill>
        <p:spPr>
          <a:xfrm>
            <a:off x="4152960" y="3214800"/>
            <a:ext cx="4991040" cy="3643200"/>
          </a:xfrm>
          <a:prstGeom prst="rect">
            <a:avLst/>
          </a:prstGeom>
          <a:ln w="0">
            <a:noFill/>
          </a:ln>
        </p:spPr>
      </p:pic>
      <p:sp>
        <p:nvSpPr>
          <p:cNvPr id="139" name="矩形 6"/>
          <p:cNvSpPr/>
          <p:nvPr/>
        </p:nvSpPr>
        <p:spPr>
          <a:xfrm>
            <a:off x="0" y="2714760"/>
            <a:ext cx="207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6477120" y="2895480"/>
            <a:ext cx="300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√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826920" y="26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eekend, will you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900000" y="1052640"/>
            <a:ext cx="36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I wi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D:\备课\二年级\二年级上学期 第三册\金太阳二上课件\Module6\listen.jpg"/>
          <p:cNvPicPr/>
          <p:nvPr/>
        </p:nvPicPr>
        <p:blipFill>
          <a:blip r:embed="rId1"/>
          <a:srcRect l="6492" t="0" r="6492" b="0"/>
          <a:stretch/>
        </p:blipFill>
        <p:spPr>
          <a:xfrm>
            <a:off x="4299120" y="3443400"/>
            <a:ext cx="4844880" cy="3414600"/>
          </a:xfrm>
          <a:prstGeom prst="rect">
            <a:avLst/>
          </a:prstGeom>
          <a:ln w="0">
            <a:noFill/>
          </a:ln>
        </p:spPr>
      </p:pic>
      <p:sp>
        <p:nvSpPr>
          <p:cNvPr id="144" name="矩形 6"/>
          <p:cNvSpPr/>
          <p:nvPr/>
        </p:nvSpPr>
        <p:spPr>
          <a:xfrm>
            <a:off x="0" y="2428920"/>
            <a:ext cx="100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/>
          <p:cNvSpPr/>
          <p:nvPr/>
        </p:nvSpPr>
        <p:spPr>
          <a:xfrm>
            <a:off x="6143760" y="1600200"/>
            <a:ext cx="300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√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3" descr="basketball1 (1).png"/>
          <p:cNvPicPr/>
          <p:nvPr/>
        </p:nvPicPr>
        <p:blipFill>
          <a:blip r:embed="rId2"/>
          <a:stretch/>
        </p:blipFill>
        <p:spPr>
          <a:xfrm>
            <a:off x="179280" y="3714840"/>
            <a:ext cx="400068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26920" y="26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eekend, will you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900000" y="1052640"/>
            <a:ext cx="36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I wi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Amy吹笛子1.png"/>
          <p:cNvPicPr/>
          <p:nvPr/>
        </p:nvPicPr>
        <p:blipFill>
          <a:blip r:embed="rId2"/>
          <a:srcRect l="11811" t="15118" r="34965" b="0"/>
          <a:stretch/>
        </p:blipFill>
        <p:spPr>
          <a:xfrm>
            <a:off x="533520" y="2666880"/>
            <a:ext cx="3504960" cy="3737160"/>
          </a:xfrm>
          <a:prstGeom prst="rect">
            <a:avLst/>
          </a:prstGeom>
          <a:ln w="0">
            <a:noFill/>
          </a:ln>
        </p:spPr>
      </p:pic>
      <p:sp>
        <p:nvSpPr>
          <p:cNvPr id="151" name="矩形 6"/>
          <p:cNvSpPr/>
          <p:nvPr/>
        </p:nvSpPr>
        <p:spPr>
          <a:xfrm>
            <a:off x="714240" y="1857240"/>
            <a:ext cx="1000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/>
          <p:cNvSpPr/>
          <p:nvPr/>
        </p:nvSpPr>
        <p:spPr>
          <a:xfrm>
            <a:off x="7143840" y="3214800"/>
            <a:ext cx="1643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√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826920" y="26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weekend, will you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900000" y="1052640"/>
            <a:ext cx="36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I wil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, I wo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ill you do this weekend? 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访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同学，把他们的记录做成手抄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colour"/>
          <p:cNvPicPr/>
          <p:nvPr/>
        </p:nvPicPr>
        <p:blipFill>
          <a:blip r:embed="rId2"/>
          <a:stretch/>
        </p:blipFill>
        <p:spPr>
          <a:xfrm>
            <a:off x="396720" y="3502080"/>
            <a:ext cx="2919600" cy="1944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lay with the train Obama_express"/>
          <p:cNvPicPr/>
          <p:nvPr/>
        </p:nvPicPr>
        <p:blipFill>
          <a:blip r:embed="rId3"/>
          <a:stretch/>
        </p:blipFill>
        <p:spPr>
          <a:xfrm>
            <a:off x="3564000" y="3429000"/>
            <a:ext cx="2903400" cy="2104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6"/>
          <p:cNvSpPr/>
          <p:nvPr/>
        </p:nvSpPr>
        <p:spPr>
          <a:xfrm>
            <a:off x="873000" y="5780160"/>
            <a:ext cx="19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Linlin will draw a pi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97440" y="57340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Obama will play with his t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732720" y="57340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Landuoduo will go to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4"/>
          <a:stretch/>
        </p:blipFill>
        <p:spPr>
          <a:xfrm>
            <a:off x="6588000" y="3502080"/>
            <a:ext cx="2481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268360" y="2133720"/>
            <a:ext cx="506916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oodbye!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8720" y="1341000"/>
            <a:ext cx="7561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will you do this weekend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2268360" y="5157720"/>
            <a:ext cx="565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eek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416480" y="3246480"/>
            <a:ext cx="22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t01d2d283b7098c2fcd"/>
          <p:cNvPicPr/>
          <p:nvPr/>
        </p:nvPicPr>
        <p:blipFill>
          <a:blip r:embed="rId2"/>
          <a:stretch/>
        </p:blipFill>
        <p:spPr>
          <a:xfrm>
            <a:off x="1042920" y="358920"/>
            <a:ext cx="7201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en, point and find“ will, won’t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isten and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640" y="1628640"/>
            <a:ext cx="885492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What will Amy do this week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96720" y="299736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Will Sam go, to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6935760" y="2133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will go to the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-6648480" y="4005360"/>
            <a:ext cx="54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es, h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4645080" y="6021360"/>
            <a:ext cx="38862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listen and answer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96720" y="479736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Will Daming go with them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-6504120" y="5445000"/>
            <a:ext cx="54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, he won'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3194 0.061204 L 0.868194 0.050648 E">
                                      <p:cBhvr>
                                        <p:cTn id="4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61389 0.008611 E">
                                      <p:cBhvr>
                                        <p:cTn id="5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61389 0.008611 E">
                                      <p:cBhvr>
                                        <p:cTn id="5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6bkuang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63280" y="1773000"/>
            <a:ext cx="720108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Will Amy go to the zoo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What will she see?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2.Where will Daming go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What will he see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1143000" y="304920"/>
            <a:ext cx="378936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 Black"/>
              </a:rPr>
              <a:t>Read and answer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229000" y="966960"/>
            <a:ext cx="10098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-2470320" y="-444600"/>
            <a:ext cx="14024160" cy="8121600"/>
          </a:xfrm>
          <a:prstGeom prst="rect">
            <a:avLst/>
          </a:prstGeom>
          <a:ln w="0">
            <a:noFill/>
          </a:ln>
        </p:spPr>
      </p:pic>
      <p:sp>
        <p:nvSpPr>
          <p:cNvPr id="80" name="Oval 5"/>
          <p:cNvSpPr/>
          <p:nvPr/>
        </p:nvSpPr>
        <p:spPr>
          <a:xfrm>
            <a:off x="1619280" y="3213000"/>
            <a:ext cx="1512720" cy="1368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732720" y="126828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箭头 106"/>
          <p:cNvSpPr/>
          <p:nvPr/>
        </p:nvSpPr>
        <p:spPr>
          <a:xfrm flipH="1">
            <a:off x="5652720" y="16286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09440" y="482292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untrys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箭头 110"/>
          <p:cNvSpPr/>
          <p:nvPr/>
        </p:nvSpPr>
        <p:spPr>
          <a:xfrm>
            <a:off x="3203640" y="522936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:\Users\dell\AppData\Roaming\Tencent\Users\712326765\QQ\WinTemp\RichOle\R4Z@3RO6JQS8Y$FZHWSKLCX.png"/>
          <p:cNvPicPr/>
          <p:nvPr/>
        </p:nvPicPr>
        <p:blipFill>
          <a:blip r:embed="rId1"/>
          <a:stretch/>
        </p:blipFill>
        <p:spPr>
          <a:xfrm>
            <a:off x="214200" y="142920"/>
            <a:ext cx="5048280" cy="30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:\Users\dell\AppData\Roaming\Tencent\Users\712326765\QQ\WinTemp\RichOle\Q_O]Q6%M@8W9`%XP5FK_0W6.png"/>
          <p:cNvPicPr/>
          <p:nvPr/>
        </p:nvPicPr>
        <p:blipFill>
          <a:blip r:embed="rId2"/>
          <a:stretch/>
        </p:blipFill>
        <p:spPr>
          <a:xfrm>
            <a:off x="4286160" y="3786120"/>
            <a:ext cx="4467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0:30:06Z</dcterms:created>
  <dc:creator>微软用户</dc:creator>
  <dc:description/>
  <dc:language>en-US</dc:language>
  <cp:lastModifiedBy>dell</cp:lastModifiedBy>
  <dcterms:modified xsi:type="dcterms:W3CDTF">2016-03-25T06:49:03Z</dcterms:modified>
  <cp:revision>26</cp:revision>
  <dc:subject/>
  <dc:title>Maybe we’ll go to the zoo.</dc:title>
</cp:coreProperties>
</file>